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4D5CF-977B-4FA6-A7F8-5730AD9A2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F636-B66E-47EA-98C6-C03BD290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3A0A-965F-4849-9974-C78A2345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5F6B-20F5-4959-ACB0-2EE68006FB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52280"/>
            <a:ext cx="74678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F8D1-FDF8-4C64-A02E-2702DC2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FEEB-6591-41A7-BD54-59B09016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67A9-297B-426D-A02A-F99846DC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F523-EB38-493D-AFC9-E1827988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52280"/>
            <a:ext cx="74678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BDA2-3617-48D8-AD0C-020A516D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30FE-4E85-442A-AF7B-5BBBA67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81DE-37BB-4774-83EC-EF9C34F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98B1-08D8-4337-A3E8-D913DD78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70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77012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11284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11284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11284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4B19-A793-4419-874D-2D8EF8060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315200" y="6218280"/>
            <a:ext cx="1550880" cy="633240"/>
            <a:chOff x="7315200" y="6218280"/>
            <a:chExt cx="1550880" cy="633240"/>
          </a:xfrm>
        </p:grpSpPr>
        <p:pic>
          <p:nvPicPr>
            <p:cNvPr id="6" name="IDENTITYblack" descr=""/>
            <p:cNvPicPr/>
            <p:nvPr/>
          </p:nvPicPr>
          <p:blipFill>
            <a:blip r:embed="rId3"/>
            <a:stretch/>
          </p:blipFill>
          <p:spPr>
            <a:xfrm>
              <a:off x="7315200" y="6218280"/>
              <a:ext cx="15508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 txBox="1"/>
            <p:nvPr/>
          </p:nvSpPr>
          <p:spPr>
            <a:xfrm>
              <a:off x="7315200" y="6218280"/>
              <a:ext cx="1550880" cy="63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&lt;footer&g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" name="InCon98" descr=""/>
          <p:cNvPicPr/>
          <p:nvPr/>
        </p:nvPicPr>
        <p:blipFill>
          <a:blip r:embed="rId4"/>
          <a:stretch/>
        </p:blipFill>
        <p:spPr>
          <a:xfrm>
            <a:off x="228600" y="380880"/>
            <a:ext cx="121932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315200" y="6218280"/>
            <a:ext cx="1550880" cy="633240"/>
            <a:chOff x="7315200" y="6218280"/>
            <a:chExt cx="1550880" cy="633240"/>
          </a:xfrm>
        </p:grpSpPr>
        <p:pic>
          <p:nvPicPr>
            <p:cNvPr id="47" name="IDENTITYblack" descr=""/>
            <p:cNvPicPr/>
            <p:nvPr/>
          </p:nvPicPr>
          <p:blipFill>
            <a:blip r:embed="rId3"/>
            <a:stretch/>
          </p:blipFill>
          <p:spPr>
            <a:xfrm>
              <a:off x="7315200" y="6218280"/>
              <a:ext cx="15508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PlaceHolder 2"/>
            <p:cNvSpPr>
              <a:spLocks noGrp="1"/>
            </p:cNvSpPr>
            <p:nvPr>
              <p:ph type="ftr" idx="3"/>
            </p:nvPr>
          </p:nvSpPr>
          <p:spPr>
            <a:xfrm>
              <a:off x="7315200" y="6218280"/>
              <a:ext cx="1550880" cy="63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ctr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1" lang="en-US" sz="1400" spc="-1" strike="noStrike">
                  <a:solidFill>
                    <a:srgbClr val="ffffff"/>
                  </a:solidFill>
                  <a:latin typeface="Arial Narrow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&lt;footer&g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Con98" descr=""/>
          <p:cNvPicPr/>
          <p:nvPr/>
        </p:nvPicPr>
        <p:blipFill>
          <a:blip r:embed="rId4"/>
          <a:stretch/>
        </p:blipFill>
        <p:spPr>
          <a:xfrm>
            <a:off x="228600" y="5791320"/>
            <a:ext cx="1219320" cy="866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499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ulti-tier Application Development with C++Build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orge Cro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orland Developer Support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Graduation to Multi-ti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79480" y="1617840"/>
            <a:ext cx="779292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hained Application Server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2520" y="1601640"/>
            <a:ext cx="8250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HTML-Embedded Cli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38200" y="1733400"/>
            <a:ext cx="6640560" cy="4322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76720" y="5494320"/>
            <a:ext cx="281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 Narrow"/>
              </a:rPr>
              <a:t>Communicate with other t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467840" cy="160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HTML Embedded Clients offer a very convenient solution for distributed application development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ross-platfor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ighly accessibl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TP is a limiting but safe accepted protocol for the Interne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ML browsers are commonpla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 client-side configur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ML page and client app stored on the HTTP server and downloaded on deman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ase of use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rowsers eliminate need to learn a new GU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ypes of HTML embedded cli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854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ava Apple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opular browsers have JVM embedd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ctiveX contr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S Internet Explorer onl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avascript/DHTM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imarily limited to enhancement of HTML display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s not used to communicate to other processes or machi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G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TP ‘POST’ or ‘GET’ issued from within HTML to invoke executables on the HTTP server (eg. Perl, I/NSAPI, exe’s)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ava Apple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1880" y="3357720"/>
            <a:ext cx="8499600" cy="3500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27120" y="1447920"/>
            <a:ext cx="806436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 only communicate with machine running HTTP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nce Java is client, DCOM is not a practical alternative for multi-t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RBA server can be run on HTTP serv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r you can use Visibroker GateKeeper®, Borland DataGateWay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ctiveX Control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5760" y="1604880"/>
            <a:ext cx="4616280" cy="525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930920" y="1844640"/>
            <a:ext cx="421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restrictions like appl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nly in Internet Explorer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LLs downloaded with HTML file and loaded into browser’s process at run ti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irewall Scenario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e or more computers and routers which buffer between a corporate LAN and public WAN, eg. the Intern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ften impose extra consideration in multi-tier plann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atabase on the LAN, client apps on the WAN and a firewall between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atabase on the LAN, client apps on a corporate LAN and two firewalls in between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Database on the LAN, client apps on the WAN and a firewall between</a:t>
            </a:r>
            <a:endParaRPr b="1" lang="en-US" sz="4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4726080" y="3192480"/>
            <a:ext cx="1422360" cy="110016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4760" y="2932200"/>
            <a:ext cx="3414600" cy="179388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28960" y="2486160"/>
            <a:ext cx="3314520" cy="1225440"/>
          </a:xfrm>
          <a:prstGeom prst="upDownArrow">
            <a:avLst>
              <a:gd name="adj1" fmla="val 50000"/>
              <a:gd name="adj2" fmla="val 1990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89160" y="3859200"/>
            <a:ext cx="2165400" cy="965160"/>
          </a:xfrm>
          <a:prstGeom prst="flowChartMultidocumen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9120" y="1709640"/>
            <a:ext cx="8421840" cy="4181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18400" y="2166840"/>
            <a:ext cx="88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99"/>
                </a:solidFill>
                <a:latin typeface="Arial"/>
              </a:rPr>
              <a:t>HTT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990099"/>
                </a:solidFill>
                <a:latin typeface="Arial Narrow"/>
              </a:rPr>
              <a:t>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83880" y="2822400"/>
            <a:ext cx="88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99"/>
                </a:solidFill>
                <a:latin typeface="Arial"/>
              </a:rPr>
              <a:t>HTT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990099"/>
                </a:solidFill>
                <a:latin typeface="Arial Narrow"/>
              </a:rPr>
              <a:t>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Database on the LAN, client apps on a corporate LAN and two firewalls in between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200" y="2154240"/>
            <a:ext cx="8690040" cy="3649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23840" y="2960640"/>
            <a:ext cx="67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HTTP on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48680" y="2859120"/>
            <a:ext cx="88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99"/>
                </a:solidFill>
                <a:latin typeface="Arial"/>
              </a:rPr>
              <a:t>HTT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990099"/>
                </a:solidFill>
                <a:latin typeface="Arial Narrow"/>
              </a:rPr>
              <a:t>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40960" y="2851200"/>
            <a:ext cx="88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99"/>
                </a:solidFill>
                <a:latin typeface="Arial"/>
              </a:rPr>
              <a:t>HTT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990099"/>
                </a:solidFill>
                <a:latin typeface="Arial Narrow"/>
              </a:rPr>
              <a:t>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at we will co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stributed Computing Overview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enarios, protocols, APIs, DCOM and CORBA overview, Inprise product overview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ilding DCOM applications in C++Builder 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rivial DCOM appli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idas appli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ilding CORBA applications in C++Builder 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rivial CORBA appli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RBA database appli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irewalls and Gatekeeper®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6480" y="158544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aningful CORBA applications with a Java Applet client can’t usually afford to run all CORBA objects on same machine as web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atekeeper® is a great solution which allows CORBA objects to reside on other servers on the LAN and communicate with Java Applet clients outside the LA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atekeeper ® acts as a proxy server for CORBA objects to Applet cli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TTP tunnelling if clients are themselves behind a firewall which prohibits outbound IIO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GateKeeper® Scenario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8680" y="2106720"/>
            <a:ext cx="86342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ulti-tier Durability . . .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ad Balanc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ultiple simultaneous requests for a server application can be distributed evenly across serveral machi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il-over Safe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a server machine goes offline, client requests are routed to other machines which are registered as available for the same servi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ulti-tier application can also be designed for arbitrary recovery of the affected transmission should a server fail and another take its pla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ransport and Session Protocol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55520" y="1585800"/>
            <a:ext cx="4862520" cy="5023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95800" y="1782720"/>
            <a:ext cx="202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 Narrow"/>
              </a:rPr>
              <a:t>ISO - OSI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6680" y="1584360"/>
            <a:ext cx="402732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ransport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ddr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o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rame prepa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rror and reco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16680" y="3816360"/>
            <a:ext cx="4027320" cy="21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ssion 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st. of a sess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ame lookup from client to server 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ynchronization in transmission and error reco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mon Transport Protocol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5040" y="1633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PX/SPX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de popular by Novell Netware for LAN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d to connect to Netware serv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tocol of the Interne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imary transport used on Unix syste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tarted by IBM, developed further my Microsof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d for peer communications between Windows machines on LAN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mon Session Protocol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024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TTP - Hyper Text Transfer Protoco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d by web browsers to download HTML pages from web serv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IOP - Internet Inter-Orb Protoco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veloped by OMG as part of CORBA spe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ckets AP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veloped by UC Berkely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latively easy AP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metimes other session protocols use sockets for their implement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Common Session Protocols . . . con’t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PC - Remote Procedure Cal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veloped by OSF as part of D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undation for DCO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so provides for data marshalling (Presentation layer stuff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MI - Remote Method Invoc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ava specifi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es not scale as well as IIOP (no thread pooling in RMI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Naming servic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en a client app first ventures out on the network to locate a server object, some type of service to enable this must be us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pendent on session protoco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ically a naming service looks up in a table a physical machine and filename or process which maps to a particular server object na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me naming services map a name to one of several destinations providing load balancing and fail-over safe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Naming Services Schem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2000" y="1474920"/>
            <a:ext cx="7596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mon Naming Servic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1360" y="15476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d by HTTP, FTP, Gopher, SMTP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main name eg. inprise.com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chine + domain eg.   ftp.inprise.co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nmatched requests are forwarded to the current DNS server’s own primary DNS server and so forth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R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d in conjunction with DNS to locate files using a particular protoco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g ftp://ftp.apsoft.com/~gcross/code/papers/cb310t/cb310t.htm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ccompanying Material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795320"/>
            <a:ext cx="826776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lease refer to whitepaper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ll be on post-conference C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lso in lab under directory CB310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lso on www.apsoft.com/~gcros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ccompanying code samp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ywhere you find the whitepap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ferences listed at end of whitepap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owerpoint slid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lso in lab and on post conference C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lease ask questions anytime throughout lectu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mon Naming Servic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9440" y="161100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B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isibroker’s Smart Agent is a basic proprietary naming servi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vides fault-tolerance and load balanc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intains a table of object names mapped to a machine and executing proces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 conjunction with OAD, object names are mapped to objects not already execut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S Naming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ORBA standard, more comprehensive naming servi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mon Naming Servic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6480" y="152208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UIDs and Regist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COM’s crude naming servic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s 16-byte hexadecimal identifiers for an object and maps it in the Windows Registry to a UNC filena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g. \\ccalvert_NT4\sharedVolume\DCOMServers\myApp.ex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LE Enterprise®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aming service instead of DCO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vides load balancing and fail-ov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ava onl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s RMI to locate Enterprise Java Bea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DL Beginnings. . .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0600" y="1560600"/>
            <a:ext cx="8562960" cy="51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face Description Languag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veloped by Open Software Foundation as part of Distributed Computing Environment (DCE) specific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ovides a language-independent standard for describing properties and methods of an object when designing an object oriented mod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en developing an object oriented application, which lends naturally to multi-tier design, you start by describing your interfaces  using ID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xt use the development tool to compile the IDL script and generate class declarations in the tool’s programming languag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DL . . . con’t 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COM and CORBA both use ID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icrosoft IDL and OMG IDL differ slightl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ample on whitepap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sibroker Training and product documentation provide pretty good information on ID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at is DCOM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2920" y="1620720"/>
            <a:ext cx="83404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 architecture for distributed applic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volved from 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ake a COM app, and distribute it across the network using DCO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SI Presentation Level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icrosoft’s proprietary technology - though there are 3-rd party por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s MS RP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teroperable (but not OSF DCE compliant) with other DCE RPC implementations - HPUX, AIX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s NetBEUI, sockets, named pip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COM Schem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5040" y="1903320"/>
            <a:ext cx="7737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COM Basic Sequenc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536840"/>
            <a:ext cx="8798040" cy="472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whitepap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ypes of DCOM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ngle U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ne process of the server application for each controller requests an object from 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ultiple U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ne process of the server application for all controllers which wish to instantiate objects within it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bjects themselves can have these features.  One object for all is called the Active Object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at is CORBA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8320" y="15224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so an architecture for distributed application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SI Presentation level services, the ORB, are part of Visibroker.  There are other vendors of ORBs and CORBA development tool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veloped by the Object Management Group(OMG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sortium of many industry organiza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sibroker is CORBA 2.0 compliant.  So Visibroker apps can talk to other vendor’s CORBA 2.0 app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s IIOP as the session protoco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so developed by OMG as part of CORBA spe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RBA Basic Schem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0920" y="1582560"/>
            <a:ext cx="856908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roduc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stributed computing has become increasingly popular late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rt of rapid growth of corporate information system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rtly due to rapid growth of the Internet and WA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rtly due to increased availability of technologies to facilitate distributed comput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ulti-tier architecture is but one subject in the greater discipline of distributed computing,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istributed databases, transaction processing, os clustering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RBA Basic Sequenc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see whitepape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 with DCOM, there are many possibilities for connecting to active objects and instantiating inactive 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bject Activation Daemon launches objects not currently executing upon request for it by a cli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ust provide an activator object (analogous to a DCOM class factory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ents can request objects on specific machine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COM CORBA Comparison 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87520" y="15606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anguage independence with bot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latform independence with CORB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RBA offers basic load balancing and fail-over inherent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ase of useability for the developer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Inprise Multi-tier Development Products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7720" y="153684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sibrok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isibroker for C++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isibroker for Jav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isibroker Event service and Naming servi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id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nter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LE Enterpri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ppCenter, AppServer, ITS, Connect for SAP, AS/400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COM Application Development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++ Builder 3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COM Application Framework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FC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CF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LE API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T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emplate bas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TLVC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clude\atl\atlvcl.h | .cpp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clude\vcl\utilcls.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evelopment Steps Overview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65440" y="1536480"/>
            <a:ext cx="2675160" cy="14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COM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91120" indent="-219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tart with an application open in the ID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91120" indent="-219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d an Automation Object from Object Repositor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98360" y="1596960"/>
            <a:ext cx="6118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evelopment Steps Overview...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5816160"/>
            <a:ext cx="738828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the Type Library Editor to visually describe your objects and their interfac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10960" y="1365120"/>
            <a:ext cx="72709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evelopment Steps Overview...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ype Library Editor will generate class declarations and a .tlb file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.tlb file is a binary representation of your object descriptions which is bound to the server .exe and used by clients to learn about the objects your server offer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e files generated on whitepap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RBA Application Development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++ Builder 3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evelopment Steps Overview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1000" y="1373040"/>
            <a:ext cx="6995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Narrow"/>
              </a:rPr>
              <a:t>Distributed Computing Fundamentals</a:t>
            </a:r>
            <a:endParaRPr b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e use the term “multi-tier application” to describe an application which executes across two or more machi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ulti-tier design assists in,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429000"/>
            <a:ext cx="3733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09720" indent="-338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pplication deploy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9720" indent="-338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ca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9720" indent="-338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usa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3429000"/>
            <a:ext cx="3733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909720" indent="-338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oad balan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9720" indent="-338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ail-over 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9720" indent="-338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onent 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1200" y="4818240"/>
            <a:ext cx="778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1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COM and CORBA are two predominant, rapidly evolving technologies which facilitate multi-tier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DL2CPP Files Generated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.cc .hh by by defaul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*_c.cc / *_c.hh contain the class stub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ust the abstract clas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*_s.cc/ *_s.hh contain the class skelet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rived from the abstract clas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ds marshalling suppor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ther fil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r developing with tie cla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Using DCOM in Midas®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38360" y="1562040"/>
            <a:ext cx="6567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reading Model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26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ng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partm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re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ot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sibrok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ng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read-per-Sess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ool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212640" y="6370560"/>
            <a:ext cx="25808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ww.inpri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tandard Client/Server Scenario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51040" y="1720800"/>
            <a:ext cx="7893000" cy="4435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73880" y="3241800"/>
            <a:ext cx="186516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 Narrow"/>
              </a:rPr>
              <a:t>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 Narrow"/>
              </a:rPr>
              <a:t>Sy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 Narrow"/>
              </a:rPr>
              <a:t>MSSQ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 Narrow"/>
              </a:rPr>
              <a:t>Inter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 Narrow"/>
              </a:rPr>
              <a:t>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Standard Client/Server Limitations</a:t>
            </a:r>
            <a:endParaRPr b="1" lang="en-US" sz="4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34760"/>
            <a:ext cx="8229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siness logic interwoven with presentation logi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kes reusability difficult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kes client apps larg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QL Stored Procedures and Triggers help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ve some business logic to DBM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QL servers already capable of servicing large numbers of simultaneous requests, load balancing and fail-over safet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troduction of the Middle-ti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1480" y="1703520"/>
            <a:ext cx="74325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iddle-tier Makes Things Easi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ss client app needs to be deployed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pdates to business logic can be done independently of client applic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iddle-tier can be developed to handle multiple simultaneous request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than one client application can be developed to use the same server app on the middle-tier (reuseabilit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1:07:42Z</dcterms:created>
  <dc:creator>George Cross</dc:creator>
  <dc:description/>
  <dc:language>en-US</dc:language>
  <cp:lastModifiedBy>gcross</cp:lastModifiedBy>
  <cp:lastPrinted>1998-04-22T20:30:46Z</cp:lastPrinted>
  <dcterms:modified xsi:type="dcterms:W3CDTF">1998-08-09T17:23:27Z</dcterms:modified>
  <cp:revision>17</cp:revision>
  <dc:subject/>
  <dc:title>Multi-tier Application Development with C++Builder</dc:title>
</cp:coreProperties>
</file>